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004-212F-4FC8-9ABA-36F0B952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053-69EE-4B9F-80B1-FCA40CCE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B83-8DCB-4548-84EE-45656C02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A12-B29F-41AB-BD4C-96AB89B4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3D91-84A6-4957-8B27-AF9B73FC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E49F-C53A-43A4-957C-C23576DE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A2E0-A2DA-49A5-B183-59804EFF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F188-7B7E-4284-94F8-86E1F94D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9EAF-7CDD-416D-8167-21C5F73D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411C-AB4D-48FC-BBA4-2CB80C7F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4673-5E18-454E-BDD0-495438F6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FDB-05E9-4AE2-8D73-35544073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61E3-950C-45F0-8960-7ADE3BED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C326-DCEA-4889-9471-C424F2C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2EBC-BD95-4085-BB48-0E2F7B14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4755-9E5F-481C-A265-86C91BAF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6737-0359-428E-8C68-5E9F5433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774-8837-4F2C-9A75-B9C586CC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B03-9D58-4438-8307-682F8802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ACD-93E1-416B-890A-E17CD089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379-4B9D-493C-9CD1-D3688B61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C8E-0239-4BEA-84F8-50833FE6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B30-6819-4641-BCF6-F40B8FC1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AA6-5846-4B0A-98B0-F06B94B9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B8F8-BFD2-4396-9AB7-267B63A26D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59A7-8179-49F0-B750-F88B4759B0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hotosight.ru/photo.php?photoid=779312&amp;ref=author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Тема урока: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680" y="2743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нтерференция вол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Как называется это явлени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343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ойчивая во времени картина перераспределения амплитуд колебаний называется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интерферецио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124440" cy="278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Условия получения четкой интерференционной картин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лны должны име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одинаковую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стоту и постоянную разность фаз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акие волны называются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когерентн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Томаса Юнг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3165480" cy="2743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124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31431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Times New Roman"/>
              </a:rPr>
              <a:t>Опыт Юнга по наблюдению интерференции света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305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Распределение интенсивности 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в интерференционной картине. 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Целое число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– порядок интерференционного максимума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381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</a:rPr>
              <a:t>Наблюдение колец Ньютона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7240" y="914040"/>
            <a:ext cx="5257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рференция возникает при сложении волн, отразившихся от двух сторон воздушной просло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Лучи» 1 и 2 – направления распространения вол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толщина воздушного заз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8893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</a:rPr>
              <a:t>Наблюдение колец Ньютона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24280" y="1981080"/>
            <a:ext cx="4267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ьца Ньютона в монохромати-ческом свете (зеленом и красно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9621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Times New Roman"/>
              </a:rPr>
              <a:t>Наблюдение колец Ньюто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1520" y="1599840"/>
            <a:ext cx="3814920" cy="453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610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Times New Roman"/>
              </a:rPr>
              <a:t>Интерференция в тонких пленка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2674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Times New Roman"/>
              </a:rPr>
              <a:t>Интерференция в тонких пленка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66"/>
                </a:solidFill>
                <a:latin typeface="Times New Roman"/>
              </a:rPr>
              <a:t>Принцип суперпози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чка, в которой «встретились» две волны, участвует в двух колеб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ирующее смещение точки от положения равновесия равно сумме смещений, вызываемых каждой волной в отд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Times New Roman"/>
              </a:rPr>
              <a:t>Интерференция на мыльном пузыр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715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Comic Sans MS"/>
              </a:rPr>
              <a:t>Интерференция света </a:t>
            </a:r>
            <a:br>
              <a:rPr sz="3800"/>
            </a:br>
            <a:r>
              <a:rPr b="0" lang="en-US" sz="3800" spc="-1" strike="noStrike">
                <a:solidFill>
                  <a:srgbClr val="ff0066"/>
                </a:solidFill>
                <a:latin typeface="Comic Sans MS"/>
              </a:rPr>
              <a:t>вокруг нас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114800" cy="4191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48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</a:rPr>
              <a:t>Что получится </a:t>
            </a:r>
            <a:br>
              <a:rPr sz="3300"/>
            </a:br>
            <a:r>
              <a:rPr b="1" lang="en-US" sz="3300" spc="-1" strike="noStrike">
                <a:solidFill>
                  <a:srgbClr val="ff0066"/>
                </a:solidFill>
                <a:latin typeface="Times New Roman"/>
              </a:rPr>
              <a:t>в результате сложения волн?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фото | Mane | дифракция и интерференция механических волн в условиях оптической поляриза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</a:rPr>
              <a:t>Что получится </a:t>
            </a:r>
            <a:br>
              <a:rPr sz="3400"/>
            </a:br>
            <a:r>
              <a:rPr b="1" lang="en-US" sz="3400" spc="-1" strike="noStrike">
                <a:solidFill>
                  <a:srgbClr val="ff0066"/>
                </a:solidFill>
                <a:latin typeface="Times New Roman"/>
              </a:rPr>
              <a:t>в результате сложения волн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зультат сло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висит от разности фаз складывающихся колеба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т.е. от того, в какой фазе приходит каждая волна в точку с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Условие максимума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ность хода волн равна целому числу длин вол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иначе четному числу длин полуволн)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361960" cy="609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7280" y="4876920"/>
            <a:ext cx="22100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Что получится в результате сложения волн?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При этом амплитуда результирующего колебания максимальн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волны «усилили» друг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Условие минимума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ность хода волн равна  нечетному числу длин полуволн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276360" cy="3733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15000" y="3581280"/>
            <a:ext cx="222876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791320" y="4648320"/>
            <a:ext cx="2133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Что получится в результате сложения волн?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267440" cy="4678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е миниму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сть хода равна нечетному числу длин полув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 =  ( 2k + 1 ) λ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35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Arial"/>
              </a:rPr>
              <a:t>При этом амплитуда результирующего колебания равна 0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Волны «погасили» друг дру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ак называется это явлени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Интерференцией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зывается сложение волн, при котором происходит перераспределение амплитуд и энергий в результирующем колеб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A</cp:lastModifiedBy>
  <dcterms:modified xsi:type="dcterms:W3CDTF">2011-02-23T22:01:4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